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18C-E961-466E-857C-69062F12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470-9F75-4E9F-B4E9-49DF2BA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4FE-ADD8-4A84-8D4A-F749BA2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B42-883E-41DA-A8D3-FD7FE209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47E0-6067-4E8E-83A8-2C131EF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FE0E-347B-4CF4-8861-984E403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B5B2-3DEA-46E3-AA45-016628E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E89-8CE6-46D4-9A61-50AEAAF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EAA2-6439-40C0-8098-0F0565F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8F8-3341-47D3-A8B7-E683E18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6EE5-4609-4463-98DF-75D70AB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E83-4B3A-4088-8EF7-25FE011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D15-95F1-4619-A415-D156280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67DC-1132-4511-8B8B-31668BF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061-D1E9-463B-9029-85F5EF01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366-9780-4925-9019-27E4CAEB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9194-D0F8-45C9-9E98-6B2D16BE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A85-FACE-4070-9F5B-E843A07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C26-7A18-4D57-A1AD-4FAE89B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7DF-AB39-4411-984B-6CA7DE3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5CC-A765-4F06-A67C-2BB36FEE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6FE-D818-4D9D-8291-CA408BB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445-0EBD-423C-AA68-C17E6E8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62B-15B3-4052-8FF4-66F3F1F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F46-2884-4630-9772-06E07A37E7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089-2FF2-4618-9811-990CF66505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 Remnant Shall Retur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33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4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stiny of Jerusalem and its Inhabitants Signifie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zek. 4:1 – 5: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ege of Jerusalem is signified – 4:1-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 aids to impress upon the people their humiliating p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portraying the impending destiny of the people – 5:1-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interprets the signs – 5:5-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ing Fall of Jerusalem: “I am against you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die of pestil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die by s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scatt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2880" y="5257800"/>
            <a:ext cx="15908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e Revelation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Judgment upon idolatrous places and upon idol-worshiper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.6: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false gods would not help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y saw Ezekiel’s words come true, they would KN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the Lor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 bad they had to see awful death and hardship to see what should have been obv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Overthrow of Israel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zek.7:1-27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 Causing This Judg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olatry – 7:1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 – 7:19-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shed – 7: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de – 7: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verity of this Judg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disaster &amp; calamity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:5-6,22,25-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ity from God – 7:7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gues inside the city; the sword outside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375768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5043600" cy="2800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099040" y="533520"/>
            <a:ext cx="4044960" cy="5029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102360" y="3505320"/>
            <a:ext cx="304164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05720" y="3048120"/>
            <a:ext cx="30456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mall-scale modern day recreation of the temple in Jerusa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God Takes His Presence From The Temple and Jerusalem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leaves them to be destroyed – 8:1 – 11: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omination of idolatry in the temple -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troyers come – 9:1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ning of Jerusalem – 10:1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withdraws from the sanctuary – 10:3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rning of judgment and a promise of mercy – 11:1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3:33Z</dcterms:created>
  <dc:creator>Terry W. Benton</dc:creator>
  <dc:description/>
  <dc:language>en-US</dc:language>
  <cp:lastModifiedBy>Frank D Vines</cp:lastModifiedBy>
  <dcterms:modified xsi:type="dcterms:W3CDTF">2007-02-01T15:55:43Z</dcterms:modified>
  <cp:revision>6</cp:revision>
  <dc:subject/>
  <dc:title>A Remnant Shall Return</dc:title>
</cp:coreProperties>
</file>